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2E0C-7AFE-4D53-9486-2D112EB79FF2}" type="slidenum"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3A59-9853-4EC7-B2D2-CD1C2FE07E3D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D40F-7951-4440-ACDE-3E93AD9467B1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4C71-D136-4344-8CDE-CEA89492FEA8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826F-68C8-4CD6-BC6C-7119A8B1E718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12DD-E459-4A4D-B2BA-03F88618D76A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BE52-0006-4203-9BC7-CB1FBB5C2B5D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BE51-1FBB-49F8-B85C-AD807BB1E302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86C2-70C2-4D8A-950A-AB26B721F52F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54BC-CE7D-45E3-BC3E-649E10F09CA6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3D4F-2EC1-4C77-9BC2-690894C28BBA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508B-F38E-40EE-B5EE-E4189408E071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79D6-18D3-46E8-9AFD-5F7C359B579A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5706-C8DE-4ED8-9716-0A9BC5179122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CF8B-7AA7-4E99-99D2-532ECA2D911F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6678-77EA-4C7E-8422-F58539A9F738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38E1-89CA-4C4A-90D0-CC23F6C1E837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4DC6-2AA3-4FBE-A47D-55BB8B69FC80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C656-5EB7-4256-B300-B5223E188870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E14A-CD19-4D93-A272-2E7A30429498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16FB-D517-4C19-9AA6-720614F9FBE5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8991-FF73-4AA1-A95D-676BD70BC1E5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26AB-5C74-4C36-B97E-7FB8EC2FFD80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D180-3401-4C3F-BAF1-C0F330F1488C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D0D2-AA5B-4D7A-B25D-C3C3B1B342C8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2B28-C457-4494-9CE5-DF3A6F79BCFC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A4DE-755B-4CCE-96F4-D1E127CFFE98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CC07-C299-4C4F-90CF-E9BF77E33B5D}" type="slidenum">
              <a:rPr b="0" lang="ru-RU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D38-6C0D-4FC8-9A5B-73F46C08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0F2-FEA0-41FE-A7D4-0A395E73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B00-F426-4E58-AD0A-A96C17FF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69A-8634-43C0-9176-2FADDE10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4F63-0DF2-426C-8770-5A46E7C8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EEF3-4414-477E-87EE-F347016A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9A53-C43C-44AF-AAD6-A83836EA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FEED-EB8C-4F64-9FDD-A7E18A3D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FAB3-D6FA-45EB-825A-1E7B21FA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5097-22CC-4505-898E-C2E824EB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0D41-7DE5-4B2B-93D3-85E70A1D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DF1-ED2F-4A0C-A563-00E1B250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362B-9CA6-4AD2-8890-2D9C4059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90A2-513E-49AE-B31F-EA54B619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3093-9D5E-4BAE-A32F-F6FB1286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CA0C-B147-4B16-BBDE-9AC1881A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9A14-943E-4229-9D16-E88BC6E2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A2A-545A-47F1-BDF2-E9428D6D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C69-8D66-49CB-887B-354F0509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629-790A-44D5-81F9-3A83685E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BB51-4228-4A29-BE12-8F928E93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D4F-38B2-47A7-BAD9-E491E2C1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C80-5879-46E8-AAAA-C6EE1E54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57C-CE70-4040-9B77-163732ED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CB69-E66A-417B-8C9A-EE66FA217095}" type="slidenum"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0A62-31B0-4330-95CC-4311E946D013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&#8212;....xml"/><Relationship Id="rId3" Type="http://schemas.openxmlformats.org/officeDocument/2006/relationships/slide" Target="slide6.xml"/><Relationship Id="rId4" Type="http://schemas.openxmlformats.org/officeDocument/2006/relationships/slide" Target="slide-&#8230;.xml"/><Relationship Id="rId5" Type="http://schemas.openxmlformats.org/officeDocument/2006/relationships/slide" Target="slide7.xml"/><Relationship Id="rId6" Type="http://schemas.openxmlformats.org/officeDocument/2006/relationships/slide" Target="slide&#8230;.xml"/><Relationship Id="rId7" Type="http://schemas.openxmlformats.org/officeDocument/2006/relationships/slide" Target="slide9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" Target="slide7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&#1074;&#1080;&#1089;&#1080;&#1090;.xml"/><Relationship Id="rId14" Type="http://schemas.openxmlformats.org/officeDocument/2006/relationships/slide" Target="slide14.xml"/><Relationship Id="rId15" Type="http://schemas.openxmlformats.org/officeDocument/2006/relationships/slide" Target="slide13.xml"/><Relationship Id="rId16" Type="http://schemas.openxmlformats.org/officeDocument/2006/relationships/slide" Target="slide5.xml"/><Relationship Id="rId17" Type="http://schemas.openxmlformats.org/officeDocument/2006/relationships/slide" Target="slide16.xml"/><Relationship Id="rId18" Type="http://schemas.openxmlformats.org/officeDocument/2006/relationships/slide" Target="slide6.xml"/><Relationship Id="rId19" Type="http://schemas.openxmlformats.org/officeDocument/2006/relationships/slide" Target="slide17.xml"/><Relationship Id="rId20" Type="http://schemas.openxmlformats.org/officeDocument/2006/relationships/slide" Target="slide7.xml"/><Relationship Id="rId21" Type="http://schemas.openxmlformats.org/officeDocument/2006/relationships/slide" Target="slide18.xml"/><Relationship Id="rId22" Type="http://schemas.openxmlformats.org/officeDocument/2006/relationships/slide" Target="slide9.xml"/><Relationship Id="rId23" Type="http://schemas.openxmlformats.org/officeDocument/2006/relationships/slide" Target="slide20.xml"/><Relationship Id="rId24" Type="http://schemas.openxmlformats.org/officeDocument/2006/relationships/slide" Target="slide8.xml"/><Relationship Id="rId25" Type="http://schemas.openxmlformats.org/officeDocument/2006/relationships/slide" Target="slide19.xml"/><Relationship Id="rId26" Type="http://schemas.openxmlformats.org/officeDocument/2006/relationships/slide" Target="slide22.xml"/><Relationship Id="rId27" Type="http://schemas.openxmlformats.org/officeDocument/2006/relationships/slide" Target="slide.xml"/><Relationship Id="rId28" Type="http://schemas.openxmlformats.org/officeDocument/2006/relationships/slide" Target="slide&#1086;&#1073;&#1088;&#1072;&#1073;&#1086;&#1090;&#1082;&#1080;....xml"/><Relationship Id="rId29" Type="http://schemas.openxmlformats.org/officeDocument/2006/relationships/slide" Target="slide26.xml"/><Relationship Id="rId30" Type="http://schemas.openxmlformats.org/officeDocument/2006/relationships/slide" Target="slide25.xml"/><Relationship Id="rId31" Type="http://schemas.openxmlformats.org/officeDocument/2006/relationships/slide" Target="slide4.xml"/><Relationship Id="rId32" Type="http://schemas.openxmlformats.org/officeDocument/2006/relationships/slide" Target="slide5.xml"/><Relationship Id="rId33" Type="http://schemas.openxmlformats.org/officeDocument/2006/relationships/slide" Target="slide6.xml"/><Relationship Id="rId34" Type="http://schemas.openxmlformats.org/officeDocument/2006/relationships/slide" Target="slide7.xml"/><Relationship Id="rId35" Type="http://schemas.openxmlformats.org/officeDocument/2006/relationships/slide" Target="slide8.xml"/><Relationship Id="rId36" Type="http://schemas.openxmlformats.org/officeDocument/2006/relationships/slide" Target="slide19.xml"/><Relationship Id="rId37" Type="http://schemas.openxmlformats.org/officeDocument/2006/relationships/slide" Target="slide18.xml"/><Relationship Id="rId38" Type="http://schemas.openxmlformats.org/officeDocument/2006/relationships/slide" Target="slide17.xml"/><Relationship Id="rId39" Type="http://schemas.openxmlformats.org/officeDocument/2006/relationships/slide" Target="slide16.xml"/><Relationship Id="rId40" Type="http://schemas.openxmlformats.org/officeDocument/2006/relationships/slide" Target="slide15.xml"/><Relationship Id="rId41" Type="http://schemas.openxmlformats.org/officeDocument/2006/relationships/slide" Target="slide16.xml"/><Relationship Id="rId42" Type="http://schemas.openxmlformats.org/officeDocument/2006/relationships/slide" Target="slide17.xml"/><Relationship Id="rId43" Type="http://schemas.openxmlformats.org/officeDocument/2006/relationships/slide" Target="slide18.xml"/><Relationship Id="rId44" Type="http://schemas.openxmlformats.org/officeDocument/2006/relationships/slide" Target="slide19.xml"/><Relationship Id="rId45" Type="http://schemas.openxmlformats.org/officeDocument/2006/relationships/slide" Target="slide20.xml"/><Relationship Id="rId46" Type="http://schemas.openxmlformats.org/officeDocument/2006/relationships/slide" Target="slide22.xml"/><Relationship Id="rId47" Type="http://schemas.openxmlformats.org/officeDocument/2006/relationships/slide" Target="slide23.xml"/><Relationship Id="rId48" Type="http://schemas.openxmlformats.org/officeDocument/2006/relationships/slide" Target="slide24.xml"/><Relationship Id="rId49" Type="http://schemas.openxmlformats.org/officeDocument/2006/relationships/slide" Target="slide25.xml"/><Relationship Id="rId50" Type="http://schemas.openxmlformats.org/officeDocument/2006/relationships/slide" Target="slide26.xml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2502000" y="1854360"/>
            <a:ext cx="4159080" cy="31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I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раун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Bookman Old Style"/>
              </a:rPr>
              <a:t>Компьютер памятью не испортишь</a:t>
            </a: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37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ословицы                                                         1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8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76280" y="257328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Дареному компьютеру в системный блок не заглядывают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40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ословицы                                                         2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1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1640" y="2212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2efcd"/>
                </a:solidFill>
                <a:latin typeface="Bookman Old Style"/>
              </a:rPr>
              <a:t>Не все </a:t>
            </a: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WINDOWS</a:t>
            </a:r>
            <a:r>
              <a:rPr b="0" lang="ru-RU" sz="4400" spc="-1" strike="noStrike">
                <a:solidFill>
                  <a:srgbClr val="e2efcd"/>
                </a:solidFill>
                <a:latin typeface="Bookman Old Style"/>
              </a:rPr>
              <a:t>, что вис</a:t>
            </a:r>
            <a:r>
              <a:rPr b="0" lang="ru-RU" sz="4400" spc="-1" strike="noStrike">
                <a:solidFill>
                  <a:srgbClr val="e2efcd"/>
                </a:solidFill>
                <a:latin typeface="Times New Roman"/>
              </a:rPr>
              <a:t>нет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43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ословицы                                                         3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4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98900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Проводник до файла доведет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46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ословицы                                                         4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7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84360"/>
            <a:ext cx="82296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Все скомпонуется — программа будет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49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ословицы                                                         5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0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8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Беззвучный микрофон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53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еревертыши                                                    1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4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8400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Видимая папка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56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еревертыши                                                    2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82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Гибкое кольцо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59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еревертыши                                                    3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Коллективные счеты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62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еревертыши                                                    4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3900600" y="1108080"/>
            <a:ext cx="900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2" action="ppaction://hlinksldjump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1" name="Rectangle 3">
            <a:hlinkClick r:id="rId3" action="ppaction://hlinksldjump"/>
          </p:cNvPr>
          <p:cNvSpPr/>
          <p:nvPr/>
        </p:nvSpPr>
        <p:spPr>
          <a:xfrm>
            <a:off x="4943520" y="1108080"/>
            <a:ext cx="900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4" action="ppaction://hlinksldjump"/>
              </a:rPr>
              <a:t>2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2" name="Rectangle 4">
            <a:hlinkClick r:id="rId5" action="ppaction://hlinksldjump"/>
          </p:cNvPr>
          <p:cNvSpPr/>
          <p:nvPr/>
        </p:nvSpPr>
        <p:spPr>
          <a:xfrm>
            <a:off x="5951520" y="1108080"/>
            <a:ext cx="900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6" action="ppaction://hlinksldjump"/>
              </a:rPr>
              <a:t>3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3" name="Rectangle 5">
            <a:hlinkClick r:id="rId7" action="ppaction://hlinksldjump"/>
          </p:cNvPr>
          <p:cNvSpPr/>
          <p:nvPr/>
        </p:nvSpPr>
        <p:spPr>
          <a:xfrm>
            <a:off x="7967520" y="1108080"/>
            <a:ext cx="101628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8" action="ppaction://hlinksldjump"/>
              </a:rPr>
              <a:t>5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4" name="Rectangle 6">
            <a:hlinkClick r:id="rId9" action="ppaction://hlinksldjump"/>
          </p:cNvPr>
          <p:cNvSpPr/>
          <p:nvPr/>
        </p:nvSpPr>
        <p:spPr>
          <a:xfrm>
            <a:off x="6959520" y="1108080"/>
            <a:ext cx="900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10" action="ppaction://hlinksldjump"/>
              </a:rPr>
              <a:t>4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3925800" y="1978200"/>
            <a:ext cx="900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11" action="ppaction://hlinksldjump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933800" y="1978200"/>
            <a:ext cx="900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12" action="ppaction://hlinksldjump"/>
              </a:rPr>
              <a:t>2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942160" y="1978200"/>
            <a:ext cx="900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13" action="ppaction://hlinksldjump"/>
              </a:rPr>
              <a:t>3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7958160" y="1978200"/>
            <a:ext cx="101592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14" action="ppaction://hlinksldjump"/>
              </a:rPr>
              <a:t>5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950160" y="1978200"/>
            <a:ext cx="900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15" action="ppaction://hlinksldjump"/>
              </a:rPr>
              <a:t>4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0" name="Rectangle 17">
            <a:hlinkClick r:id="rId16" action="ppaction://hlinksldjump"/>
          </p:cNvPr>
          <p:cNvSpPr/>
          <p:nvPr/>
        </p:nvSpPr>
        <p:spPr>
          <a:xfrm>
            <a:off x="3925800" y="2770200"/>
            <a:ext cx="900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17" action="ppaction://hlinksldjump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1" name="Rectangle 18">
            <a:hlinkClick r:id="rId18" action="ppaction://hlinksldjump"/>
          </p:cNvPr>
          <p:cNvSpPr/>
          <p:nvPr/>
        </p:nvSpPr>
        <p:spPr>
          <a:xfrm>
            <a:off x="4932360" y="2770200"/>
            <a:ext cx="900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19" action="ppaction://hlinksldjump"/>
              </a:rPr>
              <a:t>2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2" name="Rectangle 19">
            <a:hlinkClick r:id="rId20" action="ppaction://hlinksldjump"/>
          </p:cNvPr>
          <p:cNvSpPr/>
          <p:nvPr/>
        </p:nvSpPr>
        <p:spPr>
          <a:xfrm>
            <a:off x="5940360" y="2770200"/>
            <a:ext cx="900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21" action="ppaction://hlinksldjump"/>
              </a:rPr>
              <a:t>3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3" name="Rectangle 20">
            <a:hlinkClick r:id="rId22" action="ppaction://hlinksldjump"/>
          </p:cNvPr>
          <p:cNvSpPr/>
          <p:nvPr/>
        </p:nvSpPr>
        <p:spPr>
          <a:xfrm>
            <a:off x="7956720" y="2770200"/>
            <a:ext cx="101592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23" action="ppaction://hlinksldjump"/>
              </a:rPr>
              <a:t>5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4" name="Rectangle 21">
            <a:hlinkClick r:id="rId24" action="ppaction://hlinksldjump"/>
          </p:cNvPr>
          <p:cNvSpPr/>
          <p:nvPr/>
        </p:nvSpPr>
        <p:spPr>
          <a:xfrm>
            <a:off x="6948360" y="2770200"/>
            <a:ext cx="900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25" action="ppaction://hlinksldjump"/>
              </a:rPr>
              <a:t>4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5" name="Rectangle 27"/>
          <p:cNvSpPr/>
          <p:nvPr/>
        </p:nvSpPr>
        <p:spPr>
          <a:xfrm>
            <a:off x="3933720" y="3606840"/>
            <a:ext cx="900360" cy="647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26" action="ppaction://hlinksldjump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4941720" y="3606840"/>
            <a:ext cx="900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27" action="ppaction://hlinksldjump"/>
              </a:rPr>
              <a:t>2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5950080" y="3606840"/>
            <a:ext cx="900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28" action="ppaction://hlinksldjump"/>
              </a:rPr>
              <a:t>3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7966080" y="3606840"/>
            <a:ext cx="101592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29" action="ppaction://hlinksldjump"/>
              </a:rPr>
              <a:t>5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6958080" y="3606840"/>
            <a:ext cx="900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a00"/>
                </a:solidFill>
                <a:uFillTx/>
                <a:latin typeface="Bookman Old Style"/>
                <a:hlinkClick r:id="rId30" action="ppaction://hlinksldjump"/>
              </a:rPr>
              <a:t>4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02680" y="1243080"/>
            <a:ext cx="338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Продолжите фразу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246960" y="1922400"/>
            <a:ext cx="209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Пословицы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2" name="Text Box 37"/>
          <p:cNvSpPr/>
          <p:nvPr/>
        </p:nvSpPr>
        <p:spPr>
          <a:xfrm>
            <a:off x="224640" y="3695760"/>
            <a:ext cx="118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Наука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3" name="Line 38"/>
          <p:cNvSpPr/>
          <p:nvPr/>
        </p:nvSpPr>
        <p:spPr>
          <a:xfrm>
            <a:off x="216000" y="1863720"/>
            <a:ext cx="860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4" name="Line 40"/>
          <p:cNvSpPr/>
          <p:nvPr/>
        </p:nvSpPr>
        <p:spPr>
          <a:xfrm>
            <a:off x="250920" y="2697120"/>
            <a:ext cx="860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5" name="Line 41"/>
          <p:cNvSpPr/>
          <p:nvPr/>
        </p:nvSpPr>
        <p:spPr>
          <a:xfrm>
            <a:off x="250920" y="3489480"/>
            <a:ext cx="860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6" name="Line 43"/>
          <p:cNvSpPr/>
          <p:nvPr/>
        </p:nvSpPr>
        <p:spPr>
          <a:xfrm>
            <a:off x="287280" y="4325760"/>
            <a:ext cx="8604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7" name="Rectangle 44">
            <a:hlinkClick r:id="rId31" action="ppaction://hlinksldjump"/>
          </p:cNvPr>
          <p:cNvSpPr/>
          <p:nvPr/>
        </p:nvSpPr>
        <p:spPr>
          <a:xfrm>
            <a:off x="3897360" y="1584360"/>
            <a:ext cx="85392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8" name="Rectangle 45">
            <a:hlinkClick r:id="rId32" action="ppaction://hlinksldjump"/>
          </p:cNvPr>
          <p:cNvSpPr/>
          <p:nvPr/>
        </p:nvSpPr>
        <p:spPr>
          <a:xfrm>
            <a:off x="4976640" y="1584360"/>
            <a:ext cx="85428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9" name="Rectangle 48">
            <a:hlinkClick r:id="rId33" action="ppaction://hlinksldjump"/>
          </p:cNvPr>
          <p:cNvSpPr/>
          <p:nvPr/>
        </p:nvSpPr>
        <p:spPr>
          <a:xfrm>
            <a:off x="5967360" y="1584360"/>
            <a:ext cx="85428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0" name="Rectangle 49">
            <a:hlinkClick r:id="rId34" action="ppaction://hlinksldjump"/>
          </p:cNvPr>
          <p:cNvSpPr/>
          <p:nvPr/>
        </p:nvSpPr>
        <p:spPr>
          <a:xfrm>
            <a:off x="6958080" y="1584360"/>
            <a:ext cx="85392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1" name="Rectangle 50">
            <a:hlinkClick r:id="rId35" action="ppaction://hlinksldjump"/>
          </p:cNvPr>
          <p:cNvSpPr/>
          <p:nvPr/>
        </p:nvSpPr>
        <p:spPr>
          <a:xfrm>
            <a:off x="7993080" y="1584360"/>
            <a:ext cx="98892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2" name="Rectangle 54">
            <a:hlinkClick r:id="rId36" action="ppaction://hlinksldjump"/>
          </p:cNvPr>
          <p:cNvSpPr/>
          <p:nvPr/>
        </p:nvSpPr>
        <p:spPr>
          <a:xfrm>
            <a:off x="7993080" y="2463840"/>
            <a:ext cx="988920" cy="179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3" name="Rectangle 55">
            <a:hlinkClick r:id="rId37" action="ppaction://hlinksldjump"/>
          </p:cNvPr>
          <p:cNvSpPr/>
          <p:nvPr/>
        </p:nvSpPr>
        <p:spPr>
          <a:xfrm>
            <a:off x="6958080" y="2463840"/>
            <a:ext cx="85392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4" name="Rectangle 56">
            <a:hlinkClick r:id="rId38" action="ppaction://hlinksldjump"/>
          </p:cNvPr>
          <p:cNvSpPr/>
          <p:nvPr/>
        </p:nvSpPr>
        <p:spPr>
          <a:xfrm>
            <a:off x="5967360" y="2463840"/>
            <a:ext cx="85428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5" name="Rectangle 57">
            <a:hlinkClick r:id="rId39" action="ppaction://hlinksldjump"/>
          </p:cNvPr>
          <p:cNvSpPr/>
          <p:nvPr/>
        </p:nvSpPr>
        <p:spPr>
          <a:xfrm>
            <a:off x="4932360" y="2463840"/>
            <a:ext cx="85392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6" name="Rectangle 58">
            <a:hlinkClick r:id="rId40" action="ppaction://hlinksldjump"/>
          </p:cNvPr>
          <p:cNvSpPr/>
          <p:nvPr/>
        </p:nvSpPr>
        <p:spPr>
          <a:xfrm>
            <a:off x="3941640" y="2463840"/>
            <a:ext cx="85428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7" name="Rectangle 59">
            <a:hlinkClick r:id="rId41" action="ppaction://hlinksldjump"/>
          </p:cNvPr>
          <p:cNvSpPr/>
          <p:nvPr/>
        </p:nvSpPr>
        <p:spPr>
          <a:xfrm>
            <a:off x="3941640" y="3273480"/>
            <a:ext cx="85428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8" name="Rectangle 60">
            <a:hlinkClick r:id="rId42" action="ppaction://hlinksldjump"/>
          </p:cNvPr>
          <p:cNvSpPr/>
          <p:nvPr/>
        </p:nvSpPr>
        <p:spPr>
          <a:xfrm>
            <a:off x="4976640" y="3273480"/>
            <a:ext cx="85428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9" name="Rectangle 61">
            <a:hlinkClick r:id="rId43" action="ppaction://hlinksldjump"/>
          </p:cNvPr>
          <p:cNvSpPr/>
          <p:nvPr/>
        </p:nvSpPr>
        <p:spPr>
          <a:xfrm>
            <a:off x="5967360" y="3273480"/>
            <a:ext cx="85428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0" name="Rectangle 62">
            <a:hlinkClick r:id="rId44" action="ppaction://hlinksldjump"/>
          </p:cNvPr>
          <p:cNvSpPr/>
          <p:nvPr/>
        </p:nvSpPr>
        <p:spPr>
          <a:xfrm>
            <a:off x="6958080" y="3273480"/>
            <a:ext cx="85392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1" name="Rectangle 63">
            <a:hlinkClick r:id="rId45" action="ppaction://hlinksldjump"/>
          </p:cNvPr>
          <p:cNvSpPr/>
          <p:nvPr/>
        </p:nvSpPr>
        <p:spPr>
          <a:xfrm>
            <a:off x="7993080" y="3273480"/>
            <a:ext cx="98892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2" name="Rectangle 69">
            <a:hlinkClick r:id="rId46" action="ppaction://hlinksldjump"/>
          </p:cNvPr>
          <p:cNvSpPr/>
          <p:nvPr/>
        </p:nvSpPr>
        <p:spPr>
          <a:xfrm>
            <a:off x="3941640" y="4100400"/>
            <a:ext cx="85428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3" name="Rectangle 70">
            <a:hlinkClick r:id="rId47" action="ppaction://hlinksldjump"/>
          </p:cNvPr>
          <p:cNvSpPr/>
          <p:nvPr/>
        </p:nvSpPr>
        <p:spPr>
          <a:xfrm>
            <a:off x="4976640" y="4100400"/>
            <a:ext cx="85428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4" name="Rectangle 71">
            <a:hlinkClick r:id="rId48" action="ppaction://hlinksldjump"/>
          </p:cNvPr>
          <p:cNvSpPr/>
          <p:nvPr/>
        </p:nvSpPr>
        <p:spPr>
          <a:xfrm>
            <a:off x="5967360" y="4100400"/>
            <a:ext cx="85428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5" name="Rectangle 72">
            <a:hlinkClick r:id="rId49" action="ppaction://hlinksldjump"/>
          </p:cNvPr>
          <p:cNvSpPr/>
          <p:nvPr/>
        </p:nvSpPr>
        <p:spPr>
          <a:xfrm>
            <a:off x="6958080" y="4100400"/>
            <a:ext cx="85392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6" name="Rectangle 73">
            <a:hlinkClick r:id="rId50" action="ppaction://hlinksldjump"/>
          </p:cNvPr>
          <p:cNvSpPr/>
          <p:nvPr/>
        </p:nvSpPr>
        <p:spPr>
          <a:xfrm>
            <a:off x="7993080" y="4100400"/>
            <a:ext cx="988920" cy="135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313200" y="2732040"/>
            <a:ext cx="256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Перевертыши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5634000"/>
            <a:ext cx="9144000" cy="1224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82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Отцовский транзистор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65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еревертыши                                                    5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2760" y="231732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Наука известная с глубокой древности. Ее отцом считается древнегреческий философ Аристотель. </a:t>
            </a:r>
            <a:br>
              <a:rPr sz="4400"/>
            </a:b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69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Наука                                                                   1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1792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2efcd"/>
                </a:solidFill>
                <a:latin typeface="Bookman Old Style"/>
              </a:rPr>
              <a:t>Наука имеющая дело с числами, количеством и формой.</a:t>
            </a: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72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Наука                                                                  2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139840"/>
            <a:ext cx="8229600" cy="27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Наука о законах, методах и способах накопления, обработки и передачи информации.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75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Наука                                                                   3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Bookman Old Style"/>
              </a:rPr>
              <a:t>Наука, возникшая из потребности измерения земельных участков</a:t>
            </a:r>
            <a:endParaRPr b="0" lang="en-US" sz="40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78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Наука                                                                  4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Наука об общих свойствах процессов управления в живых и неживых системах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81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Наука                                                                   5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0" y="5634000"/>
            <a:ext cx="9144000" cy="1224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>
            <a:hlinkClick r:id="rId1" action="ppaction://hlinksldjump"/>
          </p:cNvPr>
          <p:cNvSpPr/>
          <p:nvPr/>
        </p:nvSpPr>
        <p:spPr>
          <a:xfrm>
            <a:off x="0" y="5634000"/>
            <a:ext cx="9144000" cy="1224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0660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Информатика не более наука о компьютерах, чем астрономия — наука о … 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21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родолжите фразу                                             1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2" name="Rectangle 5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родолжите фразу</a:t>
            </a: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       2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73280"/>
            <a:ext cx="8229600" cy="16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В любой науке, в любом искусстве лучший учитель -…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25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8444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Все преходяще, быстротечно,</a:t>
            </a:r>
            <a:br>
              <a:rPr sz="4400"/>
            </a:br>
            <a:r>
              <a:rPr b="0" lang="en-US" sz="4400" spc="-1" strike="noStrike">
                <a:solidFill>
                  <a:srgbClr val="e2efcd"/>
                </a:solidFill>
                <a:latin typeface="Bookman Old Style"/>
              </a:rPr>
              <a:t>И лишь наука …</a:t>
            </a:r>
            <a:endParaRPr b="0" lang="en-US" sz="44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27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родолжите фразу                                             3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8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38120" y="2006280"/>
            <a:ext cx="8229600" cy="29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Bookman Old Style"/>
              </a:rPr>
              <a:t>Жизнь похожа на урок алгебры. Как только вы решите одну задачу, учитель …</a:t>
            </a:r>
            <a:endParaRPr b="0" lang="en-US" sz="4000" spc="-1" strike="noStrike">
              <a:solidFill>
                <a:srgbClr val="e2efcd"/>
              </a:solidFill>
              <a:latin typeface="Bookman Old Style"/>
            </a:endParaRPr>
          </a:p>
        </p:txBody>
      </p:sp>
      <p:sp>
        <p:nvSpPr>
          <p:cNvPr id="230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родолжите фразу                                             4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1" name="Rectangle 7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родолжите фразу                                             5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3" name="Rectangle 7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216000" y="2095560"/>
            <a:ext cx="8756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man Old Style"/>
              </a:rPr>
              <a:t>Опасность не в том, что компьютер однажды начнет мыслить, как человек, а в том, что человек …</a:t>
            </a:r>
            <a:endParaRPr b="0" lang="en-US" sz="4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7:04:20Z</dcterms:created>
  <dc:creator>ДК</dc:creator>
  <dc:description/>
  <dc:language>en-US</dc:language>
  <cp:lastModifiedBy>Класс 28</cp:lastModifiedBy>
  <dcterms:modified xsi:type="dcterms:W3CDTF">2010-01-31T10:41:23Z</dcterms:modified>
  <cp:revision>68</cp:revision>
  <dc:subject/>
  <dc:title>Слайд 1</dc:title>
</cp:coreProperties>
</file>